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4D7-D686-446D-9A70-728B3B54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3F0A-54AB-44D6-8077-2DD1E30D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919DB-08A2-47F9-8CD7-806AC8AC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D9A80-5DBD-4D94-B0F5-A3F3E58D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2726F-9092-44C2-9B09-12737414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48E5E-13E0-42BC-9A86-3DC43C6D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62992-8554-4308-929D-696E9880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E0B42-7F9F-4ECD-9AEE-A3664A12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BFFD9-D80B-4F8F-A7BA-D6E378A7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F8B41-3034-4FC8-A9D3-800D1E42C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7B10B-0C39-456D-BF59-5576A64F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06FD4-9189-45E5-9E06-C33549EB4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97A8-86F9-475D-8A1B-B74D97962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22852-07E4-431D-B70A-3179157B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53F9D-7B25-4546-9E76-111E407D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054EA-F73A-49BD-8E4C-FC8812F7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71760-132F-4EA7-8F03-9B0026B2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6F79F6-F57F-4834-BE64-C8B0B347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ECBBD-0AED-4D59-B558-DC1F7375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A581F-5EC3-42AA-ABC2-3CC3B994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A4CF8-8FA1-4792-A4A5-8D3F7815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084E5-14E0-47D2-B83B-AE3F2C0C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16147-8623-4D9A-93F8-243B6A51D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1DF-A8FD-4CF5-80CF-BE69AF30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7ACDC-28DC-461C-ABA1-54AE58E2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18B98A-10C9-4B3B-B7C1-52DF14BA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3377C-EC87-4B17-BB0B-A1F8FC45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DB4C7-02FF-4C1F-B3FD-EBB8DE58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29A4C-F0E9-4069-89D5-0C107717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CC036-CFF3-4050-9023-65B44B70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9A03C-ABEC-4D67-BE4E-ED7F2963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F9AFC-DE84-4DFD-B499-8614BEAE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49B67-C91A-4C56-92AE-E1D114FB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6EA19-AC9F-49BB-BFAD-0A119B8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05D8-9036-48A5-9469-8F717109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EFA15-F4BB-4545-B262-D1CB1D7F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07519-C340-4F0E-A23E-7D7BB174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A2B92-7E8C-43FE-87F8-8899111C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4FA0B-8348-4E06-8FD8-A6B7C912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41700-FF8A-43B9-BC00-9A4DB3C0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B22FA-2EDE-4BAC-AAB3-58D05A1B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1FB04-265B-4C91-93F4-9693579C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07888-C52E-4E70-A065-583CB074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DA259-785E-4E3E-8D0A-8F0FBC30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BBDE4-345B-4F95-8403-6CAE05B8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CCF5-589F-4D35-A151-04ECC32E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75F79-B93A-4603-A1D0-9D2438C4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09013-FBAE-4AF6-A4C5-B490721A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020A8-2A52-4C88-9D25-097CA3DD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C23C5-0910-41B3-BD6B-8C6545F7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316BB-14E7-4B63-B5D4-EFA13A59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D69949-4B19-4B8D-AE36-A83511AF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B62AD-F353-4EC7-BBBB-FDDF9065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76EC2-6452-4FEA-944A-94711D83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D5713-2BC7-435E-BC92-2D40851A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65EB34-E628-42E3-AC02-47ED187D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FFD03-A0C0-4CE2-B312-E46EF243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6EF11-676A-4387-A3F9-1018CCC7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4BA9CC-E18D-4796-8F4F-6B044898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EB7CA-7391-48C2-ACC0-53658F7D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B27DA6-6E8A-4F11-B214-B4F51ED0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A6798-2727-498E-B5FF-C0694717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5274B-389F-487B-AE07-562CD8A5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0A0BF-E8F6-4EC6-9163-0604D175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39419-356B-44BF-B5C3-62D0DFCD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22120-F6FA-4135-B48B-5F5697C3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87F38-810A-415E-AFB4-4EBEAED5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01C71-843E-45EE-A3EA-87FF998C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76155-B44B-48A5-A366-3C4AFABA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AAC891-3AA3-409B-9D96-795D1399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A941A7-9F8D-41BF-AFB7-C1ECE8F6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13C62D-0BA3-4917-A355-F5F28E77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E157C7-673F-4D69-BE76-CF2A86D8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0A6AA-8CD9-473B-AEE4-D20637DA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E79BC5-F750-4408-BBDF-606A37C1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E0456-9246-4B72-B4FD-6683C5AD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397E87-B37A-4A74-9BBB-E8F8B391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FB7016-C24D-42F3-8360-B339B2E2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9475-CABB-4AD0-8582-3ADBC107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8E06B-9F86-4800-A473-5D40B07C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6B1D86-42B4-4AD6-9F99-61A84137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B419C9-E57E-4518-85FD-812B0C15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7A3702-605D-4DE3-8EA2-9D335E19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A02C3-99C3-4E4C-9905-E467E299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0C6A0A-2994-43AF-8AC5-AB1193EA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5617F-1FE2-4BC6-8F1D-839AC2DC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7F170-BA50-4341-B1D1-E0D2B5C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F38D9-45A9-4439-9CC0-D8BE23B2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85C44-3699-48EA-88AA-81752482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94DC-5177-4E88-8223-37A03CAA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66B07F-BC1F-49A5-92F0-BCD797EB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160B3-460A-4EC8-83BD-C07AD2FB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87F76B-66B8-4F07-835B-C3D6C992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95F45-BE0D-4446-A479-721A6B24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796060-D721-48AC-B4D1-DFC87376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1D506-2632-40A8-B963-67657E93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F3244-B157-4A14-85A2-925271DF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5E0534-4601-49FA-B375-8E5FEAE5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BA196-D236-4B9E-A6DF-66053313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486338-7DC7-4B49-8A58-ADF47C5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5481-C6E0-4E58-A89E-A854C490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4CD2AD-8B6F-4582-BAAD-50D93E2E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CF1788-54E3-482F-9497-78BAB530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D7D3B6-9F2B-4440-AF9B-7AB009DA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206EA-7363-43F9-A125-803A81ED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7AAD34-421B-4407-A497-76DD9102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6ACC30-DA9A-4B0F-AA4E-AE02BE1B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5128FF-2D8D-4197-9FC5-D5F71A50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65FFD-B332-4DB2-A904-4D025FEC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94DE2-E1A4-4EC3-825A-6271D742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BCDA46-9C3F-4AB9-B58D-79A8DD35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44E-944E-4AE4-BEEA-35B94599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3B59-9184-4459-B9B2-AB218C06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18E2C-FFDF-4A21-A0C0-BCF5341A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9A031E-8859-4909-9377-6A8497ED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8230C-8537-4202-BCE7-37AE106A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7CD7A-084D-4C00-B6E8-15518894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29360-07E6-4873-80A3-7605379A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FDE8E9-84E2-4E7A-9D5D-E12B40FA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325B0-7E11-4887-AC02-C7C0D53F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AF0ED2-5BE5-48E4-9C89-651E015A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C58F7D-7566-4D66-A2AE-17CD6F2C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EA7D7-7921-4D1B-A633-798D356E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3E5DF-6785-47A2-975A-3CD3DA3C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8C5CA6-A834-41CF-B511-E0C53565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6B3B6A-707E-4A4D-9878-ADC4CC73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E28B0F-38EC-4BEE-9BB2-401DCF16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FC0E55-8EFD-4927-84C7-9CC03E4A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53571-E31F-4CB7-9E0E-5815655F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6960EE-F370-449D-995A-0F74DC28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BD0A13-6809-48A4-B1E5-FC4AB0F0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6518D2-17BD-4BA1-A601-EA2E6DF4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3DFA7E-567D-4D41-BC01-02DF88CB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8B95D4-F6F4-4289-931C-2230EF52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E0FB-A333-42F6-B15B-16BB128C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C94F1-C4E9-4404-925E-20A87234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BCDF7C-F27E-4BC0-95D4-DC0B05E8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F21FF6-4741-4D41-A200-898DE06D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DC3B92-267E-4018-8D60-92932FF3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148B10-6C8F-47FB-8305-6AA260C6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781CEC-1514-43E4-B06A-71B2CB56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74A8B-7D27-41B1-9F6F-E459BEBB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2FE5FE-1565-46B5-864C-4FB51977E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CAE14F-4B51-4B0E-BC9E-E1D0D425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A0C903-C2B0-47D3-ABB2-1468A3E1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5EE6-4A73-41C9-AEFC-E4BFDF9E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3B89A-F3C9-4EEE-BF01-775EE92C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EBEEFC-1EEE-4B5F-9595-3DBD6D53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B10F81-4005-4453-8984-91DFF218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84F43B-A954-49CF-A225-3B7AB414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862102-7E18-4E5A-8EA2-74905EDE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9E8AE0-3AA6-4C05-8D66-93D101F2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60C7A5-6195-4D6F-86E6-086E52F6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E01345-C5E8-4180-9BBA-EDDA1307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D3556B-48C2-401C-B7B4-6D4097D8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CD38622-7BDB-4778-9267-3559DB31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CF46-2A5E-4CA1-8510-73B066C5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BCD93B-0F66-4857-A345-516DBD8D3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1E789-A704-43DD-B739-906AB690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9D5BE8-850D-4329-8BBD-7583E1C7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457A90-55FE-45F6-9279-A0110196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F83B5A-0551-49FB-A80C-DB580CC9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F7295A-6B26-479E-84AC-38E1602A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E31A8D-2D8B-46B9-8662-D868E030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DFEF9-9838-4B51-97BD-C2037CDE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65A4E-EAF0-46B3-B875-F2451CF8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B22133-FBEB-4E24-8D76-51F59E6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FE9F4-C5B2-480D-8154-97C85428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6174C-4DF9-49F7-B4E2-3A4C5724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4E50D-09AE-40D5-BBB6-DE58387C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CAF070-3190-413E-8201-F90ACB70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5A7C3-39E8-4475-AD22-9364DC6B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22D6C-EB06-4FC9-8E94-702F6FF8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FF5E4-B2BB-45C6-88E0-6FB12003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90724-C8BE-4D2E-93CA-5558AFE9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EAD6-AE83-4ADF-B197-24A8B3AD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8B92-7D9E-44B0-AB6A-2A44440C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F3DC-0D3A-4466-ABC7-C3E10997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0456E-AC20-4B6C-AB65-F0DF5A58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895DE-012E-4916-B0B0-6881F60E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B7C9B-7C9F-4D1C-B041-67C73B00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4150F-FF71-459A-8EC9-3BEADC4E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2CC9-8E5E-44FF-897D-424EE81A0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6A451-9C5A-439A-BC0A-FEBCF7260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C4847-1480-4B6F-9DFB-513757E5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0D2B-098B-42E1-A49B-292BD60D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154-608F-4308-8EA8-425A7FBD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2C049-33FF-4623-AE1A-600F014D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9B1AE-16BF-464B-8671-C8090434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E069-CED7-47A3-8F00-AFFCA451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164C0-9E50-4F18-A17B-91F6F36B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94A9-DD98-4762-8C7C-9D9F025E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7B794-1390-472F-996D-2F14B31E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381D4-7E0F-4048-912E-BE5A7BD9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10AE3-F55D-4521-BBEB-6F3F44FE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C1E3-1DBD-49F2-A0CE-C91757FF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171A6-C529-4D41-B62B-DC92EC86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DAC-8E00-4034-9562-A258EFFD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4B41E-81FF-4747-B63F-A39FBCCE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A407E-6203-465D-9D98-C5E43CD9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C162F-6EB9-4F12-8BAE-29CE28E0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78A37-897E-436F-A50A-64E07D62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BDC5E-A86F-4844-AD64-50FD58C2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F3840-FCC5-4288-B1C2-7A1C8128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163BA-BED5-49A6-989E-1660CEC3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EE4DE-632C-4C14-BF94-0F8D0727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B10E0-9790-45E5-B0D6-21907B0C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8DC8B-597A-461B-A142-ABA222A0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AD41-59F7-4F91-BD21-4D4124A6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870AD-99C2-4133-B3BF-8967BDE85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25B04-A0BE-465E-963F-B7488B68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7BBBD-071A-4F1A-9210-16389FC8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FC431-60DF-4116-8235-E4A26BD4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7BA77-E969-4648-9C09-8D7A5DEF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8E310-EE43-41ED-8302-C969732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2AF61-809B-48FE-B3E1-63601A6F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6B2A0-0DB9-41BC-B992-6C5ED222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8E2C0-C0EE-4F73-8178-458211DD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F67F8-E3B8-4F3F-806D-E33D7CD3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935-1D68-4FBB-91BD-4C9CD9D9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32D81-8C52-468F-8697-8BEC211C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6A6F4-51F3-4F9B-95CB-0BCE324A5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EBA08-A1B3-4593-AF1D-3D144212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28923-0D3B-41D7-A7B8-B2D129D9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FBDC1-F526-42CC-98FA-40152C4B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D3877-BF5B-46C1-8210-6FC6EAA8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39B5D-C675-4DFA-A9E8-739EC122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E700F-AF71-46E6-AF98-F046227C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C874E-4B1C-430F-9354-A66DE9DA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E95D6-93C7-431C-AC8F-4D260516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1D5-9017-4790-9CA8-0C85F81F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5026E-C9F7-41EC-A236-CD6E1177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EA7DE-FED9-4259-A93B-4AC51C52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2FF97-8DC2-4F82-B88B-042CA12D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DBCD3-087B-4AFB-8FC9-316D058F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5C03A-DE17-4613-809D-DB844FB0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A77AB-502E-4A5A-A68F-977B78F1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B9B8B-EE0E-47FD-BDCD-B1E93675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21FDC-EA41-4271-B35A-79FF2F58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7B5D6-EB4F-4F4E-B118-DAF097FE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5FB43-3BC1-4619-B42C-1682F113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A33-1FCA-4BEB-AEE8-BE04F436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42BD7-57AF-4C1B-84BB-4797BFD1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F34C5-551D-4347-98EA-5B607DE1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09757-7220-4D9C-AE67-F59503FE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8D41D-EE7C-4186-95F2-CEB9B5B8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50AF1-DC45-4467-946D-406F8A46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EFD91-3516-4246-A589-F9AFBB27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D765E-673A-4758-A3E5-4F4B2040A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E009E-8964-4280-A445-50BF0100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9F461-189B-491A-9203-1F8D1AD4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1D623-32AF-427E-AA30-523B50D1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638B-1771-4A1F-92D2-2E9969CED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895A-55CA-49B9-94D8-97284D1327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5031-F3C2-459E-AD7B-AF70B3C425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2A89-E394-445B-8A0D-2EFB8B7549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7331-7A38-453E-AAD9-FC42F6034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2E20-19E5-4C27-9632-9F8568A6CF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011C-4595-407C-A675-23B5CCE0E9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870B-AD7E-462D-A1F7-848DF86BBB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2D4A-4586-498C-9659-9DAD17CE4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D4199-44CE-477B-A1D3-9B7B0EA8CC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1111-6FEA-45FF-84B9-0CA799DD90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1C9D-8148-4A1B-A92C-2A40EC56A4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0C66-D702-4E51-B6CE-2DF3CFE31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5141-E0F7-420E-B495-8C03670360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36FD-E129-4356-A5D7-C818D1C9A7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B21E-84CC-4BBC-89F7-63DC8F8BE2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B4914-E9AA-483C-8464-4B22A7C5B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8C4A-E816-458A-84CD-E490E394E4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BE91-5DF6-4A40-A852-C6FE63755A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666E-B2DA-493C-BFE9-CDD6CD5A0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0D47-AAA6-47FA-8A14-0CC7B2C822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3E7D-B43E-4EAD-A9E7-35A017AF6F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76D9-1892-43B8-A5AC-1D492FDCE7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275E-0E9F-4ACF-BD26-10592A5572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0AB4-9A96-4E21-A4A9-C85A671634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CA29-3BFB-4B7F-81DA-AE4CBB86EB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DE87-77C0-45E2-A32F-A0C034A0B0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5B98-B801-4953-A397-394371E94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C013-17BB-40D5-BD27-705428724A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6AC8-36B9-4E4B-852C-CF659C5709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A556-D995-42B1-A575-61DE22B25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7863-FED8-4E88-9DC7-F00B35BA90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0729-073F-48A4-8078-5AB7B0C609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A4F3-7519-42A8-BE3D-FA36EB3CA2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0214-64DB-48A9-B3C3-3FF9CD01B9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12F5-F9F7-4FDE-80B3-64814AC8BF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24B6-CB3A-432B-AA15-0BCEF24F11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A2EE-C38D-4B55-B0D7-903744CD6D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49D41-0FDE-4B4E-BDE2-3A947B818E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5C6F-8BDA-40D6-B29D-927FA281B7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360360" y="3170160"/>
            <a:ext cx="8028000" cy="7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391080" cy="44481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5364000" y="2533680"/>
            <a:ext cx="1511640" cy="4381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3" descr=""/>
          <p:cNvPicPr/>
          <p:nvPr/>
        </p:nvPicPr>
        <p:blipFill>
          <a:blip r:embed="rId3"/>
          <a:stretch/>
        </p:blipFill>
        <p:spPr>
          <a:xfrm>
            <a:off x="5364000" y="3449520"/>
            <a:ext cx="151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5580000" y="4395960"/>
            <a:ext cx="1513080" cy="438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3" descr=""/>
          <p:cNvPicPr/>
          <p:nvPr/>
        </p:nvPicPr>
        <p:blipFill>
          <a:blip r:embed="rId5"/>
          <a:stretch/>
        </p:blipFill>
        <p:spPr>
          <a:xfrm>
            <a:off x="5364000" y="5335560"/>
            <a:ext cx="151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067960" cy="50385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3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3"/>
          <a:stretch/>
        </p:blipFill>
        <p:spPr>
          <a:xfrm>
            <a:off x="1692360" y="414324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826920" y="949320"/>
            <a:ext cx="7391520" cy="56484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432000" cy="438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" descr=""/>
          <p:cNvPicPr/>
          <p:nvPr/>
        </p:nvPicPr>
        <p:blipFill>
          <a:blip r:embed="rId3"/>
          <a:stretch/>
        </p:blipFill>
        <p:spPr>
          <a:xfrm>
            <a:off x="1403280" y="2565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" descr=""/>
          <p:cNvPicPr/>
          <p:nvPr/>
        </p:nvPicPr>
        <p:blipFill>
          <a:blip r:embed="rId4"/>
          <a:stretch/>
        </p:blipFill>
        <p:spPr>
          <a:xfrm>
            <a:off x="1403280" y="465300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Picture 3" descr=""/>
          <p:cNvPicPr/>
          <p:nvPr/>
        </p:nvPicPr>
        <p:blipFill>
          <a:blip r:embed="rId1"/>
          <a:stretch/>
        </p:blipFill>
        <p:spPr>
          <a:xfrm>
            <a:off x="519120" y="930240"/>
            <a:ext cx="8105760" cy="566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3" descr=""/>
          <p:cNvPicPr/>
          <p:nvPr/>
        </p:nvPicPr>
        <p:blipFill>
          <a:blip r:embed="rId2"/>
          <a:stretch/>
        </p:blipFill>
        <p:spPr>
          <a:xfrm>
            <a:off x="4140360" y="321804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3" descr=""/>
          <p:cNvPicPr/>
          <p:nvPr/>
        </p:nvPicPr>
        <p:blipFill>
          <a:blip r:embed="rId3"/>
          <a:stretch/>
        </p:blipFill>
        <p:spPr>
          <a:xfrm>
            <a:off x="4140360" y="4632480"/>
            <a:ext cx="1152360" cy="438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3" descr=""/>
          <p:cNvPicPr/>
          <p:nvPr/>
        </p:nvPicPr>
        <p:blipFill>
          <a:blip r:embed="rId4"/>
          <a:stretch/>
        </p:blipFill>
        <p:spPr>
          <a:xfrm>
            <a:off x="4438800" y="6056280"/>
            <a:ext cx="1152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Picture 1" descr=""/>
          <p:cNvPicPr/>
          <p:nvPr/>
        </p:nvPicPr>
        <p:blipFill>
          <a:blip r:embed="rId1"/>
          <a:stretch/>
        </p:blipFill>
        <p:spPr>
          <a:xfrm>
            <a:off x="1601640" y="907920"/>
            <a:ext cx="6210360" cy="12002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2" descr=""/>
          <p:cNvPicPr/>
          <p:nvPr/>
        </p:nvPicPr>
        <p:blipFill>
          <a:blip r:embed="rId2"/>
          <a:stretch/>
        </p:blipFill>
        <p:spPr>
          <a:xfrm>
            <a:off x="900000" y="2367000"/>
            <a:ext cx="6782040" cy="41338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3" descr=""/>
          <p:cNvPicPr/>
          <p:nvPr/>
        </p:nvPicPr>
        <p:blipFill>
          <a:blip r:embed="rId3"/>
          <a:stretch/>
        </p:blipFill>
        <p:spPr>
          <a:xfrm>
            <a:off x="4067280" y="1525680"/>
            <a:ext cx="11523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34280" cy="5496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3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6120000" cy="4381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3" descr=""/>
          <p:cNvPicPr/>
          <p:nvPr/>
        </p:nvPicPr>
        <p:blipFill>
          <a:blip r:embed="rId3"/>
          <a:stretch/>
        </p:blipFill>
        <p:spPr>
          <a:xfrm>
            <a:off x="1476360" y="3103560"/>
            <a:ext cx="6120000" cy="4381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3" descr=""/>
          <p:cNvPicPr/>
          <p:nvPr/>
        </p:nvPicPr>
        <p:blipFill>
          <a:blip r:embed="rId4"/>
          <a:stretch/>
        </p:blipFill>
        <p:spPr>
          <a:xfrm>
            <a:off x="1476360" y="4522680"/>
            <a:ext cx="6120000" cy="4381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3" descr=""/>
          <p:cNvPicPr/>
          <p:nvPr/>
        </p:nvPicPr>
        <p:blipFill>
          <a:blip r:embed="rId5"/>
          <a:stretch/>
        </p:blipFill>
        <p:spPr>
          <a:xfrm>
            <a:off x="1403280" y="5923080"/>
            <a:ext cx="61214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Picture 2" descr=""/>
          <p:cNvPicPr/>
          <p:nvPr/>
        </p:nvPicPr>
        <p:blipFill>
          <a:blip r:embed="rId1"/>
          <a:stretch/>
        </p:blipFill>
        <p:spPr>
          <a:xfrm>
            <a:off x="647640" y="933480"/>
            <a:ext cx="7848720" cy="559116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3" descr=""/>
          <p:cNvPicPr/>
          <p:nvPr/>
        </p:nvPicPr>
        <p:blipFill>
          <a:blip r:embed="rId2"/>
          <a:stretch/>
        </p:blipFill>
        <p:spPr>
          <a:xfrm>
            <a:off x="5364000" y="1773360"/>
            <a:ext cx="432000" cy="438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3" descr=""/>
          <p:cNvPicPr/>
          <p:nvPr/>
        </p:nvPicPr>
        <p:blipFill>
          <a:blip r:embed="rId3"/>
          <a:stretch/>
        </p:blipFill>
        <p:spPr>
          <a:xfrm>
            <a:off x="3564000" y="3162240"/>
            <a:ext cx="431640" cy="438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3" descr=""/>
          <p:cNvPicPr/>
          <p:nvPr/>
        </p:nvPicPr>
        <p:blipFill>
          <a:blip r:embed="rId4"/>
          <a:stretch/>
        </p:blipFill>
        <p:spPr>
          <a:xfrm>
            <a:off x="3564000" y="4581360"/>
            <a:ext cx="431640" cy="4384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3" descr=""/>
          <p:cNvPicPr/>
          <p:nvPr/>
        </p:nvPicPr>
        <p:blipFill>
          <a:blip r:embed="rId5"/>
          <a:stretch/>
        </p:blipFill>
        <p:spPr>
          <a:xfrm>
            <a:off x="3564000" y="5994360"/>
            <a:ext cx="4316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1109520" y="727200"/>
            <a:ext cx="6924960" cy="608652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2"/>
          <a:stretch/>
        </p:blipFill>
        <p:spPr>
          <a:xfrm>
            <a:off x="5940360" y="733320"/>
            <a:ext cx="4320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1:21Z</dcterms:modified>
  <cp:revision>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